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D91-DBBF-436F-90A7-1F5E857C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3AD-A7EB-4D4E-B3F4-C357CCF8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29A-5002-468D-AED8-7120FA8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E42-426A-4C7A-95B6-5626C8EF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671-66AA-4757-BE79-3981A1E5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CC2-55CB-4529-B35C-246C968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65E-A7C4-407D-9C03-644628D5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4CE-5777-4953-A6DD-8CE358E7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F2F-4089-4406-854B-546225D3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5C6-7E81-4CD2-9DEE-DED35B9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DA9-34E2-46E1-9C5F-754499B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514-BA90-4892-B886-0275889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DD14-21CA-41C6-91F2-655CBE766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sslefreeclipart.com/" TargetMode="External"/><Relationship Id="rId2" Type="http://schemas.openxmlformats.org/officeDocument/2006/relationships/hyperlink" Target="http://www.fathersloveletter.com/video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rsbible.inf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ithsroom.com/downloads/resurrection%20eggs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Keyboard Cover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 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dventures of CyberP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6668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514760" cy="240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133720" y="152388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Enjoy you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Summe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2286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146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1240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335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322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. 28- Marc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ictograp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Research Project: African Country (con'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yclopedia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for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ather's Love Letter (6 min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e handout to take h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rcRect l="0" t="30212" r="0" b="6250"/>
          <a:stretch/>
        </p:blipFill>
        <p:spPr>
          <a:xfrm>
            <a:off x="1523880" y="0"/>
            <a:ext cx="6248520" cy="29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4572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ebruary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boarding- Working in Microsoft Word, create columns, and add numbering. Keyboard cover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oks of the Bi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200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remember the new keys, x, z and '? Do you remember the new keys, x, z and '? New letters! First a full stop - . - use your right hand ring finger, the same finger as for l. Now for the forward slash - / - use your right little finger - the same finger that you use for ; and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mithsroom.com/downloads/resurrection%20egg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eg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ut and paste the bible verse from the abov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custom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jose monteiro</dc:creator>
  <dc:description/>
  <dc:language>en-US</dc:language>
  <cp:lastModifiedBy>Dawson</cp:lastModifiedBy>
  <dcterms:modified xsi:type="dcterms:W3CDTF">2011-08-30T03:26:03Z</dcterms:modified>
  <cp:revision>7</cp:revision>
  <dc:subject/>
  <dc:title>August</dc:title>
</cp:coreProperties>
</file>